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C0D-9FE8-4275-A13F-258405862848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CB3D-1EC6-4A2A-A213-3C086E96545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D9E-69C1-42F9-A7AE-AAC5B915306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F1DF-6CDD-4211-A673-62DFC75040E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21DB-3EC8-48B6-A0DC-BF3785716F0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EF9-5812-4CFE-9C15-0EE88161EBD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6CB-0654-4C2C-9A39-A2C53A3149B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7BEE-FF95-48B9-BDC7-8753B81B31E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A70-8825-46C3-BE54-A82E33E1037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05B-DE13-4EF6-B4D9-157097B21AA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224-9A7E-4CA1-B688-797C0F47F7D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172-B20B-40FB-B673-9E8A0713373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6B8-3F7B-49D3-A178-D5446CC2437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D2F-61B4-4217-B57F-6F28EB5410F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ástupný symbol päty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(nastaviť Idrisi Explorer do adresáru .../Idrisi Tutorial/M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čísla snímky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BC94-C77D-4AA9-9E9A-AC3F1DC4823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467-A234-4115-B562-3A241A82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EC6-E349-4D9D-8429-A313E8F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42B-1605-4F29-9EF7-86E3FBE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384-627D-4C50-9195-7E1754D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D4FD-F6C4-424D-9836-458A8944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665F-1BEA-49FA-A75B-C4C7769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A78-FF98-4F13-BD7B-F98F445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695-5B22-4909-A704-240E094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1888-61A8-41D7-9136-A87A987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06B9-9A9B-4243-884B-44ABDBC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E02-40A6-407F-840C-FEF195B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320-41E4-46AD-8649-BF19A08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4825-40CD-409E-A54B-C80DD58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523-2A31-4045-A8F0-EFA225F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56E-C4CA-41B7-A884-0DC107E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AA7-A6CF-4F3A-ACC6-440571AE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E77-D5A4-40F9-9384-7E7CABC4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5B8-16D5-4C72-902A-CD03844C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C6F-4282-4C29-8A03-FF170EB2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3CD-5D7E-4A89-9911-57BAC958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97D-405C-4823-96E8-0059430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80B-AEAE-4CFE-AFFE-D31DAB5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45E-58D9-4857-B5BA-B92F9E5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DEC-8C7B-490A-96E0-CE34DCE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829-2CC2-4FA9-BAA5-01DC23659F2D}" type="slidenum">
              <a:rPr b="0" lang="sk-SK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E37-B663-4DC2-A452-54202D59F428}" type="slidenum">
              <a:rPr b="0" lang="sk-SK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Exercise 2-7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CE: Criteria Development and the</a:t>
            </a: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oolean</a:t>
            </a:r>
            <a:r>
              <a:rPr b="0" lang="sk-SK" sz="5000" spc="-1" strike="noStrike">
                <a:solidFill>
                  <a:srgbClr val="006633"/>
                </a:solidFill>
                <a:latin typeface="Garamond"/>
              </a:rPr>
              <a:t> Approach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: Tvorba rozhodnu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í v 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gr. Gabriel Petříček, Mgr. Vladimír Pe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2.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xtrahovanie lokalít možnej výstavby z mcelanduse -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vstup mcelanduse, výstup obmedzenie2, 1-vhodné na výstavbu a 0-nevhodné na výstavbu: 1,1-5; 0,5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168800" y="2857680"/>
            <a:ext cx="49831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Fa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velopérs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užitie Zeme mcelanduse (má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ialenosť od c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ialenosť od mestského cen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lon relié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vironmentál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sa predišlo znečisteniu vodných plôch (má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533520">
              <a:spcBef>
                <a:spcPts val="601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sa stavalo v blízkosti existujúcej zástav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2. Vzdialenosť od ci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ytvoriť prázdny raster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– Initial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ýstup roaddist1, vzor mceland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eviesť vektor mceroads na raster –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asterVector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„Vector to raster“, „Line to raster“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vstup mceroads, výstup roaddist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astrová vrstva vzdialenosti od ciest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roaddist1, výstup Faktor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-15840" y="2862360"/>
            <a:ext cx="5435640" cy="4030560"/>
          </a:xfrm>
          <a:prstGeom prst="rect">
            <a:avLst/>
          </a:prstGeom>
          <a:ln w="0">
            <a:noFill/>
          </a:ln>
        </p:spPr>
      </p:pic>
      <p:pic>
        <p:nvPicPr>
          <p:cNvPr id="127" name="Obrázok 1" descr=""/>
          <p:cNvPicPr/>
          <p:nvPr/>
        </p:nvPicPr>
        <p:blipFill>
          <a:blip r:embed="rId2"/>
          <a:stretch/>
        </p:blipFill>
        <p:spPr>
          <a:xfrm>
            <a:off x="4683240" y="2862360"/>
            <a:ext cx="4476600" cy="40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3. Vzdialenosť od mestského cent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áme 2 rastre: roaddist1 a MCECenter(predstavuje mestské centrum, v supplemen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oaddist1 reklasifikujeme 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roaddist1, výstup roaddist2,  kde cesty=1 a „necesty“=3: 3,0-1; 1,1-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84280" indent="-5277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Na analýzu nákladov, v našom prípade vzdialenosť od centra pomocou cestnej siete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Cost („Cost grow“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stupy MCECenter(„Source feature image“), roaddist2 („Use friction surface), výstup Faktor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148280" y="2825640"/>
            <a:ext cx="4995720" cy="403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4000680" y="2825640"/>
            <a:ext cx="5143320" cy="4032360"/>
          </a:xfrm>
          <a:prstGeom prst="rect">
            <a:avLst/>
          </a:prstGeom>
          <a:ln w="0">
            <a:noFill/>
          </a:ln>
        </p:spPr>
      </p:pic>
      <p:pic>
        <p:nvPicPr>
          <p:cNvPr id="132" name="Obrázok 1" descr=""/>
          <p:cNvPicPr/>
          <p:nvPr/>
        </p:nvPicPr>
        <p:blipFill>
          <a:blip r:embed="rId3"/>
          <a:stretch/>
        </p:blipFill>
        <p:spPr>
          <a:xfrm>
            <a:off x="4665600" y="282564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4. Sklon reliéf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331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užije sa výškový model MCEele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Na výpočet sklonov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- Slope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MCEelev, výstup Faktor4, „Slope“, „Degrees“)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314960" y="2886120"/>
            <a:ext cx="4829040" cy="397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172040" y="3114720"/>
            <a:ext cx="49719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6. Vzdialenosť od zastavaných oblas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klasifikuje sa mcelanduse tak, aby do kategórie 1 patrili zastavané oblasti a do kategórie 0 ostatné (1-4 a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vstup mcelanduse, výstup mcelandusereclass, 0,0-5; 1,5-13; 0,13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ocou modulu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a vypočítajú vzdialenosti od zastavaných oblastí –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vstup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celandusereclass, výstup Faktor6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186080" y="2825640"/>
            <a:ext cx="498492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3606840" y="2825640"/>
            <a:ext cx="5537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Booleansky postup pre fa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astrová vrstva  má dve kategórie 1 a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Zmena tried faktorov: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z mcelanduse, kde 1 budú len územia, kde je najvýhodnejšie stavať (lesy a nerozvinuté plochy), ostatné patria do 0 triedy –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mcelanduse, výstup bool1, 0,0-3; 1,3-5; 0,5-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ciest, kde do 400m =  1, 400m a viac = 0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2, výstup bool2, 1,0-400; 0,400-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centra, kde do 400 grid cell = 1, 400 a viac = 0 (t.j. 10 minút = 400 grid cell)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3, výstup bool3, 1,0-400; 0,400-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sklonov, kde 1 = do 9°, 0 = 9° a viac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4, výstup bool4, 1,0-9; 0,9-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buffera 100 metrov od vodných tokov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uffer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vodne_plochy, výstup bool5, vzdialenosť 100, ďalšie nastavenia 0,0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boolean image vzdialenosti od zastavaných oblasti. 1 = do 300m, 0 = 300 a viac -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vstup faktor6, výstup bool6, 1,0,300; 0,300,5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4165560" y="2832120"/>
            <a:ext cx="4984920" cy="403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4167360" y="2832120"/>
            <a:ext cx="498312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3"/>
          <a:stretch/>
        </p:blipFill>
        <p:spPr>
          <a:xfrm>
            <a:off x="4156200" y="2789280"/>
            <a:ext cx="4984560" cy="403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4"/>
          <a:stretch/>
        </p:blipFill>
        <p:spPr>
          <a:xfrm>
            <a:off x="4076640" y="2846520"/>
            <a:ext cx="4983120" cy="40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3251160" y="2828880"/>
            <a:ext cx="5899320" cy="403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4076640" y="2832120"/>
            <a:ext cx="4996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ýsled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ocou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využitím logického operátora AND alebo modulu MCE vznikne výsledný image, ktorý reprezentuje územia, kde je možná výstavba nových budov (použijú sa 2 obmedzenia a 6 kritérií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4270320" y="2825640"/>
            <a:ext cx="48736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Iný výsled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ite 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využitím logického operátora 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o sa zmenil výsled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rázok 1" descr=""/>
          <p:cNvPicPr/>
          <p:nvPr/>
        </p:nvPicPr>
        <p:blipFill>
          <a:blip r:embed="rId1"/>
          <a:stretch/>
        </p:blipFill>
        <p:spPr>
          <a:xfrm>
            <a:off x="4422600" y="2825640"/>
            <a:ext cx="4721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Ďakujem za pozornosť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iac kritériové rozhodnu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stup združovania informácií z viacerých kritérií k vytvoreniu jednotného indexu rozhodnut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aktory (F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um, ktoré zväčšuje alebo zmenšuje vhod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bmedzenia (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y faktorov (rozsah 0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Zada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eľom cvičenia je nájsť vhodnú lokalitu novej výstavby v okolí mesta Westborough, Massachusetts, 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3 záujmové skupiny (radnica, developer, environmentálni aktivi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užijeme 2 obmedzenia (dané radnicou) a 6 kritérií (4 developerské, 2 environmentálne) na vyhľadávanie vhodnej lok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ýsledok cvičen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714680" y="1428840"/>
            <a:ext cx="59292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Vysvetliv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ý modul je písaný kurzívou (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</a:rPr>
              <a:t>Re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ametre modulu sú písané v zátvork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äčšina modulov má v parametroch pomenovaný vstup(alebo viac) a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ľba parametrov je uvádzaná v „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 parameter nie je uvedený v zátvorkách, tak sa ponecháva defaultné nastav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Použité modu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Reclas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na reklasifikáciu rastrov, vek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RasterVec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prevod z rastra na vektor a opa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tvorba prázdneho rastrového objektu podľa uvedenej špecifik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Image Calcula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rastrová kalkul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tvorba ok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výpočet euklidovskej vzdial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- výpočet tzv. plochy nákladov (cost surface), kde je vzdialenosť meraná podľa najnižšej ceny, vynaloženého úsilia na pohyp po tzv. trecom povrchu(friction su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Slop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výpočet sklonov v % alebo °, súčasť modulu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6633"/>
                </a:solidFill>
                <a:latin typeface="Garamond"/>
              </a:rPr>
              <a:t>Obmedzeni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Zákaz stavať 50 metrov od otvorených vodných plôch, riek a mokrad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Zákaz stavať na existujúcej zástavbe (povolené stavať na orných pôdach, poľnohospodárskej ploche, lesoch a na nerozvinutých plochá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1. 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tvorené vodné plochy („Open water“) = extrahovaním z rastrovej vrstvy mcelanduse - 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eclass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stup mcelanduse, výstup mcelandusereclass1, 0,0-13; 1,13-1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Riečna sieť (Streams) = vektorový súbor mcestreams previesť na raster –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RasterVector( „Vector to raster“, „Line to raster“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stup mcestreams, výstup streamraster,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vzor mceland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44784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Mokrade (Wetlands) = mcewetland, rozbaliť archív SUPPLEMENTAL.z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2832120"/>
            <a:ext cx="5794200" cy="403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825640"/>
            <a:ext cx="4635360" cy="403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27000" y="2820960"/>
            <a:ext cx="4995720" cy="4030560"/>
          </a:xfrm>
          <a:prstGeom prst="rect">
            <a:avLst/>
          </a:prstGeom>
          <a:ln w="0">
            <a:noFill/>
          </a:ln>
        </p:spPr>
      </p:pic>
      <p:pic>
        <p:nvPicPr>
          <p:cNvPr id="113" name="Obrázok 3" descr=""/>
          <p:cNvPicPr/>
          <p:nvPr/>
        </p:nvPicPr>
        <p:blipFill>
          <a:blip r:embed="rId4"/>
          <a:stretch/>
        </p:blipFill>
        <p:spPr>
          <a:xfrm>
            <a:off x="4422600" y="2832120"/>
            <a:ext cx="4721400" cy="4032360"/>
          </a:xfrm>
          <a:prstGeom prst="rect">
            <a:avLst/>
          </a:prstGeom>
          <a:ln w="0">
            <a:noFill/>
          </a:ln>
        </p:spPr>
      </p:pic>
      <p:pic>
        <p:nvPicPr>
          <p:cNvPr id="114" name="Obrázok 4" descr=""/>
          <p:cNvPicPr/>
          <p:nvPr/>
        </p:nvPicPr>
        <p:blipFill>
          <a:blip r:embed="rId5"/>
          <a:stretch/>
        </p:blipFill>
        <p:spPr>
          <a:xfrm>
            <a:off x="4676760" y="283680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006633"/>
                </a:solidFill>
                <a:latin typeface="Garamond"/>
              </a:rPr>
              <a:t>1. obmedzen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pojenie vrstiev do jednej – modul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Image Calculator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„Logical expression“, použitie logického operátora OR, vstupy mcelandusereclass1, streamraster, mcewetland, výstup vodne_ploch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ytvoriť buffer 50 metrov okolo vodných plôch - </a:t>
            </a:r>
            <a:r>
              <a:rPr b="0" i="1" lang="sk-SK" sz="26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(vstup vodne_plochy, výstup obmedzenie1,  vzdialenosť 50, ďalšie nastavenia 0,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400" y="2843280"/>
            <a:ext cx="4865400" cy="4030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3276720" y="2843280"/>
            <a:ext cx="58672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8:29:55Z</dcterms:created>
  <dc:creator>Gapex</dc:creator>
  <dc:description/>
  <dc:language>en-US</dc:language>
  <cp:lastModifiedBy>Vlado</cp:lastModifiedBy>
  <dcterms:modified xsi:type="dcterms:W3CDTF">2018-03-13T09:05:33Z</dcterms:modified>
  <cp:revision>123</cp:revision>
  <dc:subject/>
  <dc:title>Tvorba rozhodnutí v GIS</dc:title>
</cp:coreProperties>
</file>